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E09-3726-4152-B4BF-2D337E94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402-B8FB-4427-8963-E6E57142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59A-BB34-4FB3-8C95-87B42A1E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1D7-A504-4B9E-9DA9-9A7D9309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22A-DFE5-4952-A8AB-E822171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355-66EB-415A-807F-17177430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5B8-AEDB-4375-B117-8C6AE33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3BB-49EF-46B1-AB7C-50098F0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1A0-03AF-40B5-8613-41E633E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25F-C7B6-4BA4-930B-469FB1A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79A-673E-46E0-B6E4-3174294E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C13-B4F2-4975-96C1-4F0BE35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A9A1-437D-4408-B8A5-BEA6F707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hyperlink" Target="http://www.ogcnetwork.net/system/files/080206+ADC-6+Percivall.ppt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hyperlink" Target="mailto:rhusar@me.wustl.edu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 Pilot Note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civall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resen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Ispra,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3327480" cy="248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257800" y="1523880"/>
            <a:ext cx="3201840" cy="24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050840" y="1511280"/>
            <a:ext cx="3333960" cy="24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3220920" cy="248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867280" y="3505320"/>
            <a:ext cx="238320" cy="858600"/>
          </a:xfrm>
          <a:prstGeom prst="downArrow">
            <a:avLst>
              <a:gd name="adj1" fmla="val 50000"/>
              <a:gd name="adj2" fmla="val 900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505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rom One-shot to Evolutionary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0480" y="448164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.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9560" y="191124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50840" y="1511280"/>
            <a:ext cx="3333960" cy="24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315200" y="1219320"/>
            <a:ext cx="1676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husar@me.wustl.edu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, Feb 14, 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lot in Ph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5257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Goal: Per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19:53Z</dcterms:created>
  <dc:creator>Administrator</dc:creator>
  <dc:description/>
  <dc:language>en-US</dc:language>
  <cp:lastModifiedBy>Administrator</cp:lastModifiedBy>
  <dcterms:modified xsi:type="dcterms:W3CDTF">2008-02-15T07:25:10Z</dcterms:modified>
  <cp:revision>1</cp:revision>
  <dc:subject/>
  <dc:title>AI Pilot Notes from G. Percivall Presentation at Ispra, IT</dc:title>
</cp:coreProperties>
</file>